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4E1-5097-4F3D-A41D-6D3E59B5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0E68-127F-4159-B061-55274C64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2CE0-AD12-4616-B158-22DD95D0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19B3-73A5-4904-BDDB-4566F776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64CE-A1FC-4925-B477-81C8558D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C3E7-C8F2-4FEA-A0C0-A656D763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704C-7BDD-4E81-ABB9-347A4A6C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7267-DD5B-4458-B2BA-B293A3B5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CBF6-017E-4465-9A66-62BD4D82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7E3B-DB6B-4C8A-9571-5E38CEA8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C59E-3D40-4FF9-AF26-F82691A8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A21B-280A-4B65-B983-234BEFB7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B5E6-08D5-4657-BB05-F2B17DE8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25AE-EE2E-4CCD-A0E4-03C0601E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A739-E5D5-4928-8068-CE25343B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1788-2112-4AE2-90EB-9ADC9ECF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DA2A-4F43-45A4-8D13-9BC66D57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61DB38-71A1-460A-9B68-10560759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73B5B-92E9-4ECC-B0B1-4AB90DD5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E2C47-AA13-4609-B372-D43EAB7D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FFF63-15F7-4C09-8E49-08A953A5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B8C9C-78B5-4DE6-B7C8-0BE54501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932F-4D3B-4B09-A5C8-CA9A06C9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F7A48-8FEC-4E1B-85FF-83A3034D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15064-E016-463A-AD51-7AF00775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AD701C-BF86-4AB8-BAD5-2B6F5570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6C8A7-905D-4C47-A02C-D1E29475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49CBB-2433-47FB-BA49-3A372FB1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23E62D-F869-4037-B966-B8B0E553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4376D1-F519-4397-AAF2-43CA3116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2241A-74E3-4AA0-BA04-453D4EE7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ADA48-2E07-4A35-8BC8-F833802A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0EA40-33A6-43D3-A7D0-85990F03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CEA0-3EDA-4CC7-B5C7-872F6E0C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FA160-FC54-425A-A088-8E76E650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BA497-E443-417C-AA79-C14DEA91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B99A1-2FC3-4205-A38A-8294D735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7AD8C-88F0-403B-BD33-5650DB13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112DA-3761-43C4-8136-A6994DA8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C94BD-4E78-47CE-BC1C-ECE0241B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3E350-F286-4EBF-AD04-3A6F3520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8C019-89FD-4FA6-A153-2C0FF76D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F2290-1B9A-4C23-B8BB-F7610A53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83E644-FECD-401A-B992-D6D88375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F2DC-25E2-4D6D-8BF6-92B6634C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843C75-ADE8-4FE6-9192-73EFB0BF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2D5954-F986-472A-A7A5-F7899D49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3C04ED-D277-4FE6-8EE3-7C89AE4D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78FEEE-5403-4D6D-B184-28F72BDD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B3EF32-008F-4E67-982F-B226DCE5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E4C70E-759D-4A18-9417-A5E8A9B8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10E313-DC4E-4FBC-97B0-E8B09B2C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32060C-98DF-438A-95E7-7CCE6C8B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172EE-2862-4085-9A2C-3352D129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1D0770-8CB9-4079-97C7-BC62BA1C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4A2-CC07-4B1F-9EC2-F4671F6C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F0EC3-D9CF-4800-BC3E-C214D741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23641E-8B2D-458D-ABC0-D82601E1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FE53CF-5F92-404D-9FAB-7471A2D0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FEC544-1F3F-4DC3-A460-6EF18B24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D479B4-0138-4194-ACC5-F4CD6182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E91CD4-33F1-450E-B5F7-C1B1AF66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0ACB5C-EBD3-4105-AC79-AC7B57A6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DDD908-FE59-4BDA-8BF8-21FBC73F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5A0FCC-7211-402F-927E-AE729746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D7B26F-C8D1-4665-9192-F8009821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817-4D64-4E9A-B1BB-2F1ABF65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B96931-2702-45CB-8795-41391CEA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CF3FCA-4E19-4F27-A291-16877794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8B121D-BE37-4951-8A61-76B44360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C8200E-E986-492E-9C1E-B76FEF2D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2A33D7-C16A-401B-87DF-EC68CF13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DB4E8E-6094-4ED8-9153-78D2CD95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58A1CF-13F8-4D70-B83F-4AC3BE93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EE3137-EAD8-4971-AE59-4D48E73F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67FF11-57F1-43E9-9838-580FD7C5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360E24-411E-48E3-9C03-63DABEF2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9372-07B1-4F9D-9530-A3907906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625942-62D6-412B-A8E4-A04596A5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4270EE-3A9A-40CE-BA82-F41B1D81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A1ED03-A97F-4378-836F-0CC5EC68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AECB92-D60A-4AF1-BF1C-BCF3C813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27B3FB-FFA9-45AB-B9E1-D3CA1729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45FD-BF55-4995-A4CF-9A85EE2A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018C-9FE8-4760-9B47-97F8E22A410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BF21-8573-4D43-BEA0-443224EC726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2A5D-3457-4103-8BCE-F283879C6CD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0037-4C33-4B3D-ABDE-7DD93E0B4CB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E337-C903-469D-B7DB-DF9225B92AB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C857-CE7D-494A-BA75-3BDA92F6BEA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2913-576F-4ED2-BA7E-490D4BC32E6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000" spc="-1" strike="noStrike">
                <a:solidFill>
                  <a:srgbClr val="575f6d"/>
                </a:solidFill>
                <a:latin typeface="Times New Roman"/>
              </a:rPr>
              <a:t>PROGRAMARE ORIENTATĂ PE OBIEC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onstructori </a:t>
            </a:r>
            <a:r>
              <a:rPr b="1" lang="ro-RO" sz="1800" spc="-1" strike="noStrike">
                <a:solidFill>
                  <a:srgbClr val="575f6d"/>
                </a:solidFill>
                <a:latin typeface="Century Schoolbook"/>
              </a:rPr>
              <a:t>şi destructor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rcRect l="13358" t="22441" r="6494" b="27402"/>
          <a:stretch/>
        </p:blipFill>
        <p:spPr>
          <a:xfrm>
            <a:off x="457200" y="304920"/>
            <a:ext cx="8229600" cy="28954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"/>
          <p:cNvPicPr/>
          <p:nvPr/>
        </p:nvPicPr>
        <p:blipFill>
          <a:blip r:embed="rId2"/>
          <a:srcRect l="9590" t="36462" r="12517" b="10418"/>
          <a:stretch/>
        </p:blipFill>
        <p:spPr>
          <a:xfrm>
            <a:off x="304920" y="3124080"/>
            <a:ext cx="7750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75f6d"/>
                </a:solidFill>
                <a:latin typeface="Century Schoolbook"/>
              </a:rPr>
              <a:t>CE SUNT CONSTRUCTORII ŞI DESTRUCTORII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Pentru crearea, inițializarea, copierea și distrugerea obiectelor, în C++ se folosesc funcții membre speciale, numite 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constructori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și 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destructori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Funcția de tip </a:t>
            </a:r>
            <a:r>
              <a:rPr b="1" lang="vi-VN" sz="2400" spc="-1" strike="noStrike">
                <a:solidFill>
                  <a:srgbClr val="e75c01"/>
                </a:solidFill>
                <a:latin typeface="Times New Roman"/>
              </a:rPr>
              <a:t>constructor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se apelează automat la crearea fiecărui obiect al clasei, creare care poate fi statică sau dinamică (folosind operatorul 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Funcția de tip</a:t>
            </a:r>
            <a:r>
              <a:rPr b="1" lang="vi-VN" sz="2400" spc="-1" strike="noStrike">
                <a:solidFill>
                  <a:srgbClr val="e75c01"/>
                </a:solidFill>
                <a:latin typeface="Times New Roman"/>
              </a:rPr>
              <a:t> destructor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se apelează automat la eliminarea unui obiect al clasei, la încheierea timpului de viață sau, în cazul variabilelor dinamice, este solicitat prin program (cu operatorul 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575f6d"/>
                </a:solidFill>
                <a:latin typeface="Century Schoolbook"/>
              </a:rPr>
              <a:t>PROPRIETĂŢI ALE CONSTRUCTORILOR SI DESTRUCTORILO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este tipuri de functii se declara si se definesc asemanator cu celelalte functii membre, dar au cateva particularitati care le diferentiaza de acestea pri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Numele functiilor constructor sau destructor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oincide cu numele clasei careia îi apartin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; în plus destructorii se diferentiaza prin faptul ca numele lor este precedat de caracterul “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”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În declaratiile si definitiile constructorilor si destructorilor nu se specifica nici un tip de rezultat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ici macar tipul voi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575f6d"/>
                </a:solidFill>
                <a:latin typeface="Century Schoolbook"/>
              </a:rPr>
              <a:t>PROPRIETĂŢI ALE CONSTRUCTORILOR SI DESTRUCTORILO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600200"/>
            <a:ext cx="7696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tructorii si destructorii nu pot fi mosteniti, dar pot fi apelati de clasa derivat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. Nu se pot utiliza pointeri catre constructori sau destructor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 Constructorii pot avea parametri, inclusiv parametri impliciti, si pot fi supradefiniti. Destructorii nu au aceste proprietat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 Un constructor fara parametri se numeste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onstructor implici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575f6d"/>
                </a:solidFill>
                <a:latin typeface="Century Schoolbook"/>
              </a:rPr>
              <a:t>PROPRIETĂŢI ALE CONSTRUCTORILOR SI DESTRUCTORILO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7. Daca o clasa nu dispune de constructori si destructori definiti, </a:t>
            </a:r>
            <a:r>
              <a:rPr b="1" lang="en-US" sz="2400" spc="-1" strike="noStrike">
                <a:solidFill>
                  <a:srgbClr val="e75c01"/>
                </a:solidFill>
                <a:latin typeface="Century Schoolbook"/>
              </a:rPr>
              <a:t>compilatorul va genera automat un constructor implicit, respectiv un destructo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care sunt si functii public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. De obicei, constructorii si destructorii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e declara public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deoarece, daca s-ar declara privati atunci nu s-ar mai putea declara obiecte de tipul respecti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EMPLUL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Iată cum se poate defini si implementa </a:t>
            </a:r>
            <a:r>
              <a:rPr b="1" lang="ro-RO" sz="2400" spc="-1" strike="noStrike">
                <a:solidFill>
                  <a:srgbClr val="e75c01"/>
                </a:solidFill>
                <a:latin typeface="Century Schoolbook"/>
              </a:rPr>
              <a:t>clasa cerc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având ca dată membră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aza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şi ca funcţii membre , un 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constructor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, functia pentru calculul 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ei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tia pentru calculul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</a:rPr>
              <a:t>ircumferint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ei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ass cerc{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loat raza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ublic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rc()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loat aria(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loat circumferinta(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};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533160" y="304920"/>
            <a:ext cx="7467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erc::cerc(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{ cout&lt;&lt;"Raza cercului este = "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in&gt;&gt;raza; }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loat cerc::aria(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{ return (</a:t>
            </a:r>
            <a:r>
              <a:rPr b="0" lang="ro-RO" sz="2000" spc="-1" strike="noStrike">
                <a:solidFill>
                  <a:srgbClr val="000000"/>
                </a:solidFill>
                <a:latin typeface="Century Schoolbook"/>
              </a:rPr>
              <a:t>3.14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*raza*raza); }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loat cerc::circumferinta(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{return (2*</a:t>
            </a:r>
            <a:r>
              <a:rPr b="0" lang="ro-RO" sz="2000" spc="-1" strike="noStrike">
                <a:solidFill>
                  <a:srgbClr val="000000"/>
                </a:solidFill>
                <a:latin typeface="Century Schoolbook"/>
              </a:rPr>
              <a:t>3.14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*raza); }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nt main(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{ cerc c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out&lt;&lt;"Aria cercului este = "&lt;&lt; c.aria(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out &lt;&lt;"Circumferinta cercului este = "&lt;&lt; c.circumferinta();4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EMPLUL 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1"/>
          <a:srcRect l="15766" t="11270" r="13760" b="5527"/>
          <a:stretch/>
        </p:blipFill>
        <p:spPr>
          <a:xfrm>
            <a:off x="762120" y="1600200"/>
            <a:ext cx="7116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"/>
          <p:cNvPicPr/>
          <p:nvPr/>
        </p:nvPicPr>
        <p:blipFill>
          <a:blip r:embed="rId1"/>
          <a:srcRect l="16449" t="23937" r="11776" b="60108"/>
          <a:stretch/>
        </p:blipFill>
        <p:spPr>
          <a:xfrm>
            <a:off x="609480" y="380880"/>
            <a:ext cx="7315200" cy="914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2"/>
          <a:srcRect l="10279" t="16668" r="39123" b="18337"/>
          <a:stretch/>
        </p:blipFill>
        <p:spPr>
          <a:xfrm>
            <a:off x="533520" y="1600200"/>
            <a:ext cx="4852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9:16:40Z</dcterms:created>
  <dc:creator>MONICA</dc:creator>
  <dc:description/>
  <dc:language>en-US</dc:language>
  <cp:lastModifiedBy>delpack</cp:lastModifiedBy>
  <dcterms:modified xsi:type="dcterms:W3CDTF">2015-04-26T16:33:53Z</dcterms:modified>
  <cp:revision>21</cp:revision>
  <dc:subject/>
  <dc:title>Programare orientată pe obiecte</dc:title>
</cp:coreProperties>
</file>